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742-E522-4C53-804C-65C75337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055-7908-4CC3-9A13-B229C1E6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F83-7218-4CF8-A911-84C71FC8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9B9-4ED4-4118-BD82-BC3B710E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23A-CF2B-4E56-A303-FB94389B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377-3DEF-4B5F-8302-39296A90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FCE-7D93-4792-96AE-FC6A4FCE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253-1652-47F0-BAEA-B8ED58D7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222-0449-4CF0-B2AE-A383A3BE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E4C-AC4D-4652-B12D-792CE6A3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B10-34CC-4B9B-AA08-23E9FD5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37F-FA2B-4429-96EE-F362A0D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932D-21F6-4E47-892B-75539A609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438200" y="1079640"/>
            <a:ext cx="62787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я движения системы со многими степенями свободы при наличии т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я уравнения движения системы со многими степенями свободы при наличии тер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"/>
              <p:cNvSpPr txBox="1"/>
              <p:nvPr/>
            </p:nvSpPr>
            <p:spPr>
              <a:xfrm>
                <a:off x="1981080" y="2362320"/>
                <a:ext cx="57229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1752480" y="5029200"/>
                <a:ext cx="5969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Найти общее решение, описывающее линейные колебания с двумя степенями свободы (потенциальная энергия системы обладает минимумом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В неподвижной точке закреплена нерастяжимая нить длины </a:t>
            </a:r>
            <a:r>
              <a:rPr b="0" lang="en-GB" sz="3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, к которой подвешен шарик массы </a:t>
            </a:r>
            <a:r>
              <a:rPr b="0" lang="en-GB" sz="3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. К этому шарику на такой же нити подвешен второй шарик массы </a:t>
            </a:r>
            <a:r>
              <a:rPr b="0" lang="en-GB" sz="3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. Найти собственные частоты этой системы и общее решение для её линейных плоских колебаний в однородном поле тягот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сунок к задаче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724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 со многими степенями свободы име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я движения системы со многими степенями своб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"/>
              <p:cNvSpPr txBox="1"/>
              <p:nvPr/>
            </p:nvSpPr>
            <p:spPr>
              <a:xfrm>
                <a:off x="2286000" y="2362320"/>
                <a:ext cx="47941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3"/>
              <p:cNvSpPr txBox="1"/>
              <p:nvPr/>
            </p:nvSpPr>
            <p:spPr>
              <a:xfrm>
                <a:off x="2743200" y="4952880"/>
                <a:ext cx="3562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системы со многими степенями своб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введено обо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"/>
              <p:cNvSpPr txBox="1"/>
              <p:nvPr/>
            </p:nvSpPr>
            <p:spPr>
              <a:xfrm>
                <a:off x="2971800" y="2514600"/>
                <a:ext cx="3200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α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α</m:t>
                            </m:r>
                          </m:sub>
                        </m:s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4876920"/>
                <a:ext cx="3224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 со многими степенями свободы в нормальных координа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Характеристическое у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"/>
              <p:cNvSpPr txBox="1"/>
              <p:nvPr/>
            </p:nvSpPr>
            <p:spPr>
              <a:xfrm>
                <a:off x="2971800" y="2362320"/>
                <a:ext cx="30481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α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2895480" y="4419720"/>
                <a:ext cx="3292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тухающие колебания – это малые колебания, происходящие под действием силы т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иссипация – это потеря энергия на трение (переход энергии движущегося тела в тепл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движения затухающих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эффициент зату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затухающих колебаний п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"/>
              <p:cNvSpPr txBox="1"/>
              <p:nvPr/>
            </p:nvSpPr>
            <p:spPr>
              <a:xfrm>
                <a:off x="2819520" y="1600200"/>
                <a:ext cx="3047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λ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1523880" y="2438280"/>
                <a:ext cx="766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3276720" y="3581280"/>
                <a:ext cx="745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362320" y="5029200"/>
                <a:ext cx="4444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затухающих колебаний пр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стота затухающих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"/>
              <p:cNvSpPr txBox="1"/>
              <p:nvPr/>
            </p:nvSpPr>
            <p:spPr>
              <a:xfrm>
                <a:off x="3276720" y="1371600"/>
                <a:ext cx="89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3124080" y="2209680"/>
                <a:ext cx="3365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3200400" y="4572000"/>
                <a:ext cx="2941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быль энергии при затухающих колеба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иссипативна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"/>
              <p:cNvSpPr txBox="1"/>
              <p:nvPr/>
            </p:nvSpPr>
            <p:spPr>
              <a:xfrm>
                <a:off x="3200400" y="1981080"/>
                <a:ext cx="2540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3048120" y="4267080"/>
                <a:ext cx="2666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ражение сил трения через диссипативную функ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быль энергии через диссипативную функ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"/>
              <p:cNvSpPr txBox="1"/>
              <p:nvPr/>
            </p:nvSpPr>
            <p:spPr>
              <a:xfrm>
                <a:off x="3581280" y="205740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т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352680" y="4191120"/>
                <a:ext cx="2090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4:00Z</dcterms:modified>
  <cp:revision>5</cp:revision>
  <dc:subject/>
  <dc:title>Слайд 1</dc:title>
</cp:coreProperties>
</file>